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258039"/>
        <c:axId val="44847489"/>
      </c:barChart>
      <c:catAx>
        <c:axId val="952580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847489"/>
        <c:crosses val="autoZero"/>
        <c:auto val="1"/>
        <c:lblAlgn val="ctr"/>
        <c:lblOffset val="100"/>
        <c:noMultiLvlLbl val="0"/>
      </c:catAx>
      <c:valAx>
        <c:axId val="448474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2580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8707-EBBF-4713-AC62-D9A52D0EE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FAAE-C143-4584-91BB-C1AD1F5FC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B84A-189B-42A5-A1D1-9ED04882A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5A60-2FB5-47C4-81D6-C702D729B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1338-656F-48F5-80AD-BFF39F10C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41DA-BAF0-4441-9723-91A2BD1D9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A504-AB9E-45F2-9431-A2F5C7EDA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75C5-4F0A-40CB-B471-E43EEE4D0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C9E5-8639-4068-96F0-047D84BA7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3E2A-AF13-47E2-BCAF-205854065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D6EC-4DFE-443A-A9B2-58716803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B83C-EE69-48C2-83C9-6883DC2A8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A60C6E-85C9-41C1-BDF5-9DDBA19E4A9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