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23404"/>
        <c:axId val="73498096"/>
      </c:barChart>
      <c:catAx>
        <c:axId val="20023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98096"/>
        <c:crosses val="autoZero"/>
        <c:auto val="1"/>
        <c:lblAlgn val="ctr"/>
        <c:lblOffset val="100"/>
        <c:noMultiLvlLbl val="0"/>
      </c:catAx>
      <c:valAx>
        <c:axId val="73498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23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B93-5475-4708-8932-7E7684D2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170-0A7D-44A3-9ECC-159AD856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B54-E9FB-47C4-B131-C381BABB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DC2-F3D9-425C-AB68-D2465014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D16-9CC7-47F4-B7D6-8E7E424C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5DF-A4B5-49C7-BA8A-C8C7ECE3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7FA-CE46-4CF0-9C70-10CC2E54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719-DF76-48D0-BFA9-F11CE10C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22C-7F88-4E2F-A3D7-F2596FA7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9CB-6ACC-4F21-86AA-EFC09D3F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A38-DAFE-4036-8C7B-2DEAA378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9BB-5B0E-40D1-BE54-C8368D2F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EB69C-3268-44A6-9637-1D597797AF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