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03247"/>
        <c:axId val="12162986"/>
      </c:barChart>
      <c:catAx>
        <c:axId val="36503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62986"/>
        <c:crosses val="autoZero"/>
        <c:auto val="1"/>
        <c:lblAlgn val="ctr"/>
        <c:lblOffset val="100"/>
        <c:noMultiLvlLbl val="0"/>
      </c:catAx>
      <c:valAx>
        <c:axId val="12162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03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D36-CE90-4066-83A9-0549A9B1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FE1-B15E-4527-B2DD-3F7D7F9D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A13-BF5E-4FCC-B04B-143120F0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C4B-058A-4745-9B49-4529E812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432-732F-4F79-86B4-FF1D4E73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498-CB8F-4080-85E8-23AF35FC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34F-3573-417D-82DC-70BB6DFB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70D-CDDF-481C-ABDA-EB915792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985-A3A4-4AC2-A8A2-CB931CAC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CD0-56AF-4B5D-9DA9-BA69B19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05F-46D4-4D20-A908-1C4939FB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56E-3E32-45A2-B5C7-FD3F2DC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7AD84-170A-4DB2-B2B2-5953AA10AE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