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77996"/>
        <c:axId val="92126832"/>
      </c:barChart>
      <c:catAx>
        <c:axId val="49477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26832"/>
        <c:crosses val="autoZero"/>
        <c:auto val="1"/>
        <c:lblAlgn val="ctr"/>
        <c:lblOffset val="100"/>
        <c:noMultiLvlLbl val="0"/>
      </c:catAx>
      <c:valAx>
        <c:axId val="92126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7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93D-6636-4870-BFD7-5CA52736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1DF-98BE-4C23-9A60-2EF141A6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0D0-963C-4E02-9019-7890C811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E67-58CD-496B-A275-8714935F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A0C-CA18-4B6B-9E86-F43739B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4D7-B83B-439D-BC8D-19B1A7D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B9F-2963-432F-B66D-D19067CD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65D-7C7F-416B-9CEB-51F70502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593-EF26-4BE1-9FF4-ECDDF7C7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BA5-BBCB-4A39-9500-5A9630A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D02-2ECC-4E2E-A72C-FEDC4497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026-C43E-4328-805C-6BE306D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9CBF2-BD1A-452B-B511-DEA27B51B1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