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669884"/>
        <c:axId val="16321104"/>
      </c:barChart>
      <c:catAx>
        <c:axId val="976698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321104"/>
        <c:crosses val="autoZero"/>
        <c:auto val="1"/>
        <c:lblAlgn val="ctr"/>
        <c:lblOffset val="100"/>
        <c:noMultiLvlLbl val="0"/>
      </c:catAx>
      <c:valAx>
        <c:axId val="163211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6698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763F-2EB5-4CA1-A775-1A7F04459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08CB-F04D-423D-8261-4DF97D84C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2036-0F26-4DCA-AABD-790F6315F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FC96-CBFA-48B0-B453-24844B514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455D-1ADF-4B69-89F2-AF53D9FDD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B239-0D67-4746-89D9-BCAE3EE4E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6A7F-80C7-4A10-AF23-D82F4F23B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031A-E381-4D73-80E8-B2847E4B3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13B7-B025-480F-A7DE-E2D8082D2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2937-3679-42DF-889E-6E420FA53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AEE6-FFD0-404A-8153-250D90767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F855-19E9-457C-A7D8-F7C567E99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C477AF-DAE1-4B95-A852-1EAEF49910F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