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32754"/>
        <c:axId val="30639841"/>
      </c:barChart>
      <c:catAx>
        <c:axId val="76732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39841"/>
        <c:crosses val="autoZero"/>
        <c:auto val="1"/>
        <c:lblAlgn val="ctr"/>
        <c:lblOffset val="100"/>
        <c:noMultiLvlLbl val="0"/>
      </c:catAx>
      <c:valAx>
        <c:axId val="30639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2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471-1324-40DC-B646-9DBB8041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646-CF73-4FA5-8B00-392D1718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E9C-F07E-469F-8704-651D24C3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54A-4C43-4F44-A08E-C497ED21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AD3-6736-43B0-8C74-20440F14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7FD-04CB-4DB9-83BC-05A8B400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46D-F09C-468B-A1A7-AE3A4111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102-9E2D-49E7-88B4-DF0A9B75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3AA-C0CD-4D80-BE0F-92434224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AF1-A412-43DF-9AA4-A72BA15E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296-7B14-4AC4-B1E7-290A1EC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628-F99E-4D2B-B765-79DADAD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F965A-74ED-4ED3-879B-D0BC883A4E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