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92392"/>
        <c:axId val="98198558"/>
      </c:barChart>
      <c:catAx>
        <c:axId val="75592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8558"/>
        <c:crosses val="autoZero"/>
        <c:auto val="1"/>
        <c:lblAlgn val="ctr"/>
        <c:lblOffset val="100"/>
        <c:noMultiLvlLbl val="0"/>
      </c:catAx>
      <c:valAx>
        <c:axId val="98198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2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4D4-5099-4E6A-BE7D-48BF0429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CFA-8D78-46F8-81FC-AA742D2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A94-1461-48A4-9B6E-05A23DF1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3D0-6314-4B17-9A6B-20EFBF9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D1F-FF59-4429-8CF9-495D36D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210-B047-462C-9FE8-CA0D927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724-09F8-4C1C-9880-947F3D93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2A1-1127-4313-A985-ABD2F3E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F12-B622-4E70-96CB-F3E1723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C55-1F62-4B39-90D3-856D1C3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CF8-0B7A-4602-B597-D976AC8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2AD-2D98-42AA-B232-6CA5F9DE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F992-13B2-491A-B0DB-E13160510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