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462672"/>
        <c:axId val="9548792"/>
      </c:barChart>
      <c:catAx>
        <c:axId val="754626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48792"/>
        <c:crosses val="autoZero"/>
        <c:auto val="1"/>
        <c:lblAlgn val="ctr"/>
        <c:lblOffset val="100"/>
        <c:noMultiLvlLbl val="0"/>
      </c:catAx>
      <c:valAx>
        <c:axId val="95487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626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487E-A414-4BA7-8807-56F6DE992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6B6F-EEC0-4DCC-AE91-1A0B3612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50A2-928F-471E-8D1B-6C88551CF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2560-F528-4105-B3F4-720B4FE8B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3D44-D87D-4D26-8EDC-D5393EEB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0C68-9FE0-48D2-BB96-77CCADF7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8B82-5C2E-40D4-8940-91B952B0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B72A-1204-4A55-A749-B8E846D7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9B48-B81A-4A50-BAFF-7224BF7B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C2A0-E9A8-492D-9D54-4FE35E18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2F59-1E05-4D43-9DBC-CB9BFF7F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8625-7A64-40DC-9776-09A54947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FD4B2-B3AF-49C6-B04F-791049A1A4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