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29039"/>
        <c:axId val="97464506"/>
      </c:barChart>
      <c:catAx>
        <c:axId val="387290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464506"/>
        <c:crosses val="autoZero"/>
        <c:auto val="1"/>
        <c:lblAlgn val="ctr"/>
        <c:lblOffset val="100"/>
        <c:noMultiLvlLbl val="0"/>
      </c:catAx>
      <c:valAx>
        <c:axId val="974645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290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E11-4238-4685-B013-6622BACF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0174-5E30-4463-BB44-CAD964D1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A41A-220A-4ECE-A625-AA61C46E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0EE-EE30-4AC8-B741-B59BDFB3E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9A6-535B-447B-BA5C-18DEBAF3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9CC-B888-48B9-B1EB-641C802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8D08-7C48-4320-BAC5-23D3E6CE2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C11-58D6-4901-8D24-55A1F97FB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743F-D057-429D-9A21-7F246BBB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99CF-AB10-4F3F-9C1C-5ECC2EC7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E843-AEB3-4542-BA04-7DD01FE6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702-5800-4359-B751-DBE1F923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D05A4D-C1ED-4357-A486-BE806CB9D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