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0957856"/>
        <c:axId val="64114327"/>
      </c:barChart>
      <c:catAx>
        <c:axId val="4095785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114327"/>
        <c:crosses val="autoZero"/>
        <c:auto val="1"/>
        <c:lblAlgn val="ctr"/>
        <c:lblOffset val="100"/>
        <c:noMultiLvlLbl val="0"/>
      </c:catAx>
      <c:valAx>
        <c:axId val="6411432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095785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A2C0B-D494-49AD-AE47-EF5E2395D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F2CEE-B762-44BF-A48F-6E8EA3ED8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355DF-3682-4FEB-B7CB-81B227A53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0DCB4-DDEB-4167-90F2-93E0C8C2C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E3D67-629C-41FB-A011-188746D6E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4B398-0DCE-449A-A3BF-D24081C8A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529EB-73E9-4DB3-B9BD-D4254BABD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0C941-1667-46A2-8507-2779CD1F6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E4B0B-7E75-4959-B8B3-E0BB3A640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C8BA4-5C35-41A3-B9DE-721218BD9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8D8B9-51D1-40C4-8DAA-64724802A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A4851-E9B1-4AFE-9305-336780882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11390F-D837-4CFB-94A0-7DE6724EA41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