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907054"/>
        <c:axId val="83047378"/>
      </c:barChart>
      <c:catAx>
        <c:axId val="909070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047378"/>
        <c:crosses val="autoZero"/>
        <c:auto val="1"/>
        <c:lblAlgn val="ctr"/>
        <c:lblOffset val="100"/>
        <c:noMultiLvlLbl val="0"/>
      </c:catAx>
      <c:valAx>
        <c:axId val="830473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9070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1D9C-6D06-44DB-AFF8-6ADDDCC15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0C2B-B85D-4568-885E-BF756339D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6482-C015-4CE5-9080-934A6D77F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9BB3-049C-469B-BFEB-62C520450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53D4-322C-4B17-8225-B7957E28A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6B7E-0674-4153-93F8-70C13745D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6189-63ED-48D2-ACC3-5D80E7AA8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EE7C-6B31-42C8-8115-61AE0E59D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52D4-03D9-4077-BC01-8F8E48954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7897-E1E0-4D41-95C8-0C9DBC5A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3201-7D6C-494E-B3E7-8E5020322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40D4-1CA5-41E4-BBE7-B0AFD9E2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164807-056B-4DF3-B592-30D631F7ADC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