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06483"/>
        <c:axId val="80591586"/>
      </c:barChart>
      <c:catAx>
        <c:axId val="868064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591586"/>
        <c:crosses val="autoZero"/>
        <c:auto val="1"/>
        <c:lblAlgn val="ctr"/>
        <c:lblOffset val="100"/>
        <c:noMultiLvlLbl val="0"/>
      </c:catAx>
      <c:valAx>
        <c:axId val="80591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064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7091-ED6A-40F3-B02F-E1FCF1E9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7D12-0327-453E-A53F-AF9F973B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5C9-2A83-4989-AB88-B03AE88FE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562D-4193-4754-B5D2-C142C6C5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6B8C-48BA-441E-A330-DD53D596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B6B-B57D-41BB-9836-00E816E1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46D4-15BD-444A-A2F1-2F31228B9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B7FE-D4E4-4402-A180-90357B1E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CB8-BC1D-4325-9C37-95F5CFA6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981-C751-4540-BB80-AEA2E642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4A6A-4BAC-4AB9-8434-01620DE0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AA7B-E573-4C93-84DF-4D1E166F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D1271-8ED7-4F7D-B7DD-2A9ED7F1CA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