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48005"/>
        <c:axId val="78349306"/>
      </c:barChart>
      <c:catAx>
        <c:axId val="66548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49306"/>
        <c:crosses val="autoZero"/>
        <c:auto val="1"/>
        <c:lblAlgn val="ctr"/>
        <c:lblOffset val="100"/>
        <c:noMultiLvlLbl val="0"/>
      </c:catAx>
      <c:valAx>
        <c:axId val="78349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48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621-C116-4467-B23E-3AD58BD0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A7A-8963-460B-9A8A-7EE6DCBB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EFF-A6AE-4A0C-A0F0-03C61EEC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ACF-8CBA-4854-A257-B55C4AD3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A3C-EE98-4805-8AD7-8E80CC2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D49-12BA-4714-8B7C-3E83781E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B5A-BDCA-4C09-977B-176B49FE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716-9D2D-4CF0-8C00-ACBFF61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267-EE64-428D-BC5B-26194F29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0C8-82CE-49BD-885C-5CFD5CF0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67E-EF97-4A2F-BC52-6BE869A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875-62B8-4D6D-BAD1-9AF9F009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743B3-72C7-4D74-8614-CB2408E551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