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73117"/>
        <c:axId val="20816044"/>
      </c:barChart>
      <c:catAx>
        <c:axId val="17973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16044"/>
        <c:crosses val="autoZero"/>
        <c:auto val="1"/>
        <c:lblAlgn val="ctr"/>
        <c:lblOffset val="100"/>
        <c:noMultiLvlLbl val="0"/>
      </c:catAx>
      <c:valAx>
        <c:axId val="20816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3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E6A-3593-4170-82FC-800693B7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CC6-F03C-4C28-97A9-1C62361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426-A81D-48F9-95D0-3BC23B15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96E-50BE-440F-BC6D-C50B8D8E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77A-3FED-4323-ABF9-9A28C94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A93-730C-42C5-907D-489A492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611-3B2C-4546-8EB9-17AD088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A77-E385-411E-9CAD-FA4DFCE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6E9-1A05-4D51-9068-02B29B6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F4C-7656-4CA8-93D5-A1D4F5A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F35-2F9A-4EC2-A022-5EC96CF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7EC-15A9-4F39-B151-600B1B7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7386-B1D1-4FB7-AAAB-5FE746EA6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