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856"/>
        <c:axId val="38997215"/>
      </c:barChart>
      <c:catAx>
        <c:axId val="37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97215"/>
        <c:crosses val="autoZero"/>
        <c:auto val="1"/>
        <c:lblAlgn val="ctr"/>
        <c:lblOffset val="100"/>
        <c:noMultiLvlLbl val="0"/>
      </c:catAx>
      <c:valAx>
        <c:axId val="38997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023-AC8B-4AB0-8F4E-05338CDF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4F3-EAB2-4DAC-BD46-59FD665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99C-09F4-4A09-865A-9CCD1DD7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FE2-9EB4-4BF4-959B-6A1850FC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503-0BF3-404F-A816-B999826C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82A-4346-47D7-B70E-385E99D2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E33-9657-49E1-BC74-8301871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EDE-09E9-43A1-A786-7E0C0FDA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3B5-4A7A-4BE4-A7F1-366AACD3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993-477B-4C1F-BEAB-E59AB23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F94-2F79-413D-80A0-869A098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490-29B1-4EEA-B54F-93E8604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74E90-02B2-4FAD-8E24-8A9F6339A8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