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68224"/>
        <c:axId val="61944747"/>
      </c:barChart>
      <c:catAx>
        <c:axId val="842682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44747"/>
        <c:crosses val="autoZero"/>
        <c:auto val="1"/>
        <c:lblAlgn val="ctr"/>
        <c:lblOffset val="100"/>
        <c:noMultiLvlLbl val="0"/>
      </c:catAx>
      <c:valAx>
        <c:axId val="61944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682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A3A5-9A68-4B28-911B-207F77C9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C6F0-D654-42C5-90F5-1C27CCE5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5C3-3C5A-4945-9E78-338331CD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415-EB06-49AE-B7A4-2ED69409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1FAA-934E-488D-B4DC-2535A716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EFB-9D3F-4908-A671-18B04577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313-823E-413A-A1F6-3D1F6226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B147-CDA9-4422-89A5-7B749D46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F88B-04F4-4CF4-B427-11F1B4E1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FDD4-6551-4730-BBD9-A69369AB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8FF7-39E3-431E-904A-3BF50C0E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BC3-D704-4DFC-A5A8-00730589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1ABC2-BCC3-44BC-98A0-ED4A98E297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