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724921"/>
        <c:axId val="87490977"/>
      </c:barChart>
      <c:catAx>
        <c:axId val="597249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90977"/>
        <c:crosses val="autoZero"/>
        <c:auto val="1"/>
        <c:lblAlgn val="ctr"/>
        <c:lblOffset val="100"/>
        <c:noMultiLvlLbl val="0"/>
      </c:catAx>
      <c:valAx>
        <c:axId val="874909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7249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813C-13C2-445E-B6F7-342A8E215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357D-25D5-46A8-8116-D585904D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EF06-DD8B-44BB-AA2A-974BAE07E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BE3A-6AE6-4231-A31A-8F1F4191A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7BDF-231E-4E74-9BFD-38076FEE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D395-8FAF-4309-8FDD-5CC3F7EA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9B08-E43D-457C-9DA0-6C8455BB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9781-2009-4A8A-8F4B-79657689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18B2-78E5-4A08-9F03-DA746E68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1653-09A6-468E-B539-EE11C69C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D2DF-6240-441D-9074-177F8BEE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58F3-CF84-4B4A-83E7-223B4846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CD732C-1473-4B56-AAF1-5A1E340ACC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