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278"/>
        <c:axId val="90952292"/>
      </c:barChart>
      <c:catAx>
        <c:axId val="451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52292"/>
        <c:crosses val="autoZero"/>
        <c:auto val="1"/>
        <c:lblAlgn val="ctr"/>
        <c:lblOffset val="100"/>
        <c:noMultiLvlLbl val="0"/>
      </c:catAx>
      <c:valAx>
        <c:axId val="90952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A4A-0A3F-43D5-9248-4C3F6351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ADD-8642-4CC8-BF56-6E372C3E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AB0-B006-4A7F-A21F-813E64F9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2F9-4852-450E-AFE9-E09FB8B7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D66-960E-474D-BCA0-14D922A1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C20-BFA4-4563-8BAC-DFDA7D9A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AED-60FA-46AC-9ED7-3FAD76B1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F9D-6ED8-4EBC-AF6B-DAB340D6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9E7-25EE-4E1B-95B2-0436C01A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BCA-1EB0-43E4-9F8C-852EE8EB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999-7802-4FC4-8915-9A18F4EE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AB3-AFD2-41CA-902C-8BD0A2D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002EF-99D1-4CAF-A2D8-403D4C4B55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