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24745"/>
        <c:axId val="71047552"/>
      </c:barChart>
      <c:catAx>
        <c:axId val="281247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47552"/>
        <c:crosses val="autoZero"/>
        <c:auto val="1"/>
        <c:lblAlgn val="ctr"/>
        <c:lblOffset val="100"/>
        <c:noMultiLvlLbl val="0"/>
      </c:catAx>
      <c:valAx>
        <c:axId val="71047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24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9218-C73C-46E8-8F62-F2DE3D85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A99-738B-456E-AEB5-242B9FAA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5AC-B078-4CF9-95CE-0E59A7E8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056-2FB4-461B-931D-4774D7E9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E86-3327-4ACD-B319-3F1E1358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55B-676A-4A22-889F-6B184321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765B-F3E4-4682-AB80-B9FA5D33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A4E-0EC9-4B94-9E39-9E01EFC4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9CE-5AA8-491E-9C39-4AA471DC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0438-E83E-4E68-B9A4-0D2557CA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46E-3C80-43BD-ABA6-6BE8E931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A95B-07C2-4825-9716-F4269F58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717F5-A4E6-40C3-8B65-6F0F27315F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