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82577"/>
        <c:axId val="26353181"/>
      </c:barChart>
      <c:catAx>
        <c:axId val="39982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53181"/>
        <c:crosses val="autoZero"/>
        <c:auto val="1"/>
        <c:lblAlgn val="ctr"/>
        <c:lblOffset val="100"/>
        <c:noMultiLvlLbl val="0"/>
      </c:catAx>
      <c:valAx>
        <c:axId val="26353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82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90E1-7D21-4509-A963-ABA1092B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990-D53F-4C6A-B5DD-AF8B890D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DBF-EE9F-4C71-9847-A6950448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57A-08DD-4400-9CBA-D2BC8D8AE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191-0182-4614-8F45-7533AAEC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C5B-C0A9-4656-8E90-1286A613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03A-4FB9-4137-AE86-FFFCAE81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B8E-2EFA-4C6E-ADFF-56D0754D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46CB-9834-49F7-B5D6-94581B22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0FA-D729-4343-A420-2D0F9FD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7A0-B4AF-4C2E-86D9-B0412E1A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70D-7E6C-4890-B67D-585A5067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8EFB2-B156-48AA-87A8-F2341698EE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