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37889"/>
        <c:axId val="41568177"/>
      </c:barChart>
      <c:catAx>
        <c:axId val="11378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68177"/>
        <c:crosses val="autoZero"/>
        <c:auto val="1"/>
        <c:lblAlgn val="ctr"/>
        <c:lblOffset val="100"/>
        <c:noMultiLvlLbl val="0"/>
      </c:catAx>
      <c:valAx>
        <c:axId val="415681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78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D35E-E030-482B-BC9A-903BF920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47D-3907-460E-8A87-6D322278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42F-9FC8-4E9E-92B6-425A11C5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63D1-20AB-41AB-B3C2-81D1C014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36AD-D66B-4786-868C-01FA1BCC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C18C-594A-4237-956E-5878B8DC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283-1997-4AC9-A067-D79C979F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183A-6E91-4A35-B6F2-6E21B9E4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AE20-D5DF-403A-9E8A-A2B8CF8B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C9E7-B616-4588-B092-84E1318C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B9BB-4A32-4675-A833-D4947927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FD5-2BBF-4033-8BFC-6158C34D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D532D-BC0A-4C4C-AE33-C4C42DADFB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