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19528"/>
        <c:axId val="2749960"/>
      </c:barChart>
      <c:catAx>
        <c:axId val="66819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960"/>
        <c:crosses val="autoZero"/>
        <c:auto val="1"/>
        <c:lblAlgn val="ctr"/>
        <c:lblOffset val="100"/>
        <c:noMultiLvlLbl val="0"/>
      </c:catAx>
      <c:valAx>
        <c:axId val="2749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19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210-9CBF-47AD-8965-B4B76910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AD0-E60C-4A2B-A895-AD76910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30A-D97E-4429-BEB4-1BF619CE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7C4-5637-4076-B519-888785A0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B9C-FEB1-4AB0-A69D-914DD230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A72-5D26-4CAA-8864-6E101B87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B3E-3D1D-4C7D-91E6-7CA87D06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B21-1D26-44DB-827E-09C7D96D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3D0-9260-400F-A403-2D1EAE8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1F7-51C1-47C5-8EE3-1427F9E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8ED-D62A-4015-BBFD-C016070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C76-8348-42DD-ACC2-E0C4F1C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101D3-BF91-42AA-9A51-8303BA7BE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