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37883"/>
        <c:axId val="62461010"/>
      </c:barChart>
      <c:catAx>
        <c:axId val="46037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61010"/>
        <c:crosses val="autoZero"/>
        <c:auto val="1"/>
        <c:lblAlgn val="ctr"/>
        <c:lblOffset val="100"/>
        <c:noMultiLvlLbl val="0"/>
      </c:catAx>
      <c:valAx>
        <c:axId val="62461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7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E90-69CB-4BE0-82D9-CAC5A2E4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FE7-2CDC-4D16-95DC-0D909768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11D-14BB-463F-B450-67C2EB1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3F1-7951-42FC-8970-8F7C4383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E69-B6B8-413F-8D20-1F02559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EC6-712E-4D43-9A30-0F4417C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E4E-3BD9-4E15-A6B9-A313D42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ED5-328A-4185-B13D-94BC7EB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CA3-AE80-4002-9AEE-5A95C39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7B3-9FCC-4C7A-9C68-398B047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8F5-AF29-4BC9-88E0-35C65FF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C87-F2BA-4B3D-ADCA-40FBC31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A6B2E-3667-4B03-B32E-1A025A01A9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